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7F8-A3DB-457F-91AD-B4D28396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5E1-5A9F-4C32-8DE1-6A67B337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F57-C3DE-4411-9957-F0E8FF22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1B1-FBAF-44C9-8668-1D727A4E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F78-7A2B-439F-849F-CFBAC840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249-85B7-4A11-89D4-C8DDDDAB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8B7-AAE6-4A02-8333-9A828E0F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40F-0F32-4B9E-8DDA-F2DA3908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FB3-C820-43F9-AF5C-C37DE194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828-5E83-4A0E-B9D3-361DEF0D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63C-A26E-40A5-9EBB-27B910F8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97A-65D2-45C6-8913-E20CB31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.Н. Дудина, ГОУ СОШ № 2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FD6E-E1FF-4089-916D-4F42F4B2C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429000" y="63244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 rot="10672800">
            <a:off x="223560" y="11746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04920" y="3808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760076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DO YOU DO TO HELP YOUR FAMILY?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760076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8229600" y="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872480" y="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0" descr="opekaspb.ru.jpeg"/>
          <p:cNvPicPr/>
          <p:nvPr/>
        </p:nvPicPr>
        <p:blipFill>
          <a:blip r:embed="rId1"/>
          <a:stretch/>
        </p:blipFill>
        <p:spPr>
          <a:xfrm>
            <a:off x="1596960" y="1822320"/>
            <a:ext cx="595620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repair one’s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велосипед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7848720" y="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971800" y="228600"/>
            <a:ext cx="48006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Find a friend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who..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057400" y="1905120"/>
          <a:ext cx="6858000" cy="4895640"/>
        </p:xfrm>
        <a:graphic>
          <a:graphicData uri="http://schemas.openxmlformats.org/drawingml/2006/table">
            <a:tbl>
              <a:tblPr/>
              <a:tblGrid>
                <a:gridCol w="5281560"/>
                <a:gridCol w="157644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IND A FRIEND WHO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his/her bed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d the tabl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washing up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ed the phone call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ned the room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 the pet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ed the flower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k a pet for a walk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aired his/her bik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158" descr="выгул собак"/>
          <p:cNvPicPr/>
          <p:nvPr/>
        </p:nvPicPr>
        <p:blipFill>
          <a:blip r:embed="rId1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9" descr="мойка"/>
          <p:cNvPicPr/>
          <p:nvPr/>
        </p:nvPicPr>
        <p:blipFill>
          <a:blip r:embed="rId2"/>
          <a:stretch/>
        </p:blipFill>
        <p:spPr>
          <a:xfrm>
            <a:off x="228600" y="990720"/>
            <a:ext cx="1104840" cy="115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0" descr="на стол"/>
          <p:cNvPicPr/>
          <p:nvPr/>
        </p:nvPicPr>
        <p:blipFill>
          <a:blip r:embed="rId3"/>
          <a:stretch/>
        </p:blipFill>
        <p:spPr>
          <a:xfrm>
            <a:off x="152280" y="304812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1" descr="telefon"/>
          <p:cNvPicPr/>
          <p:nvPr/>
        </p:nvPicPr>
        <p:blipFill>
          <a:blip r:embed="rId4"/>
          <a:stretch/>
        </p:blipFill>
        <p:spPr>
          <a:xfrm>
            <a:off x="685800" y="1905120"/>
            <a:ext cx="114300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2" descr="47109844_mes_11819[1]"/>
          <p:cNvPicPr/>
          <p:nvPr/>
        </p:nvPicPr>
        <p:blipFill>
          <a:blip r:embed="rId5"/>
          <a:stretch/>
        </p:blipFill>
        <p:spPr>
          <a:xfrm>
            <a:off x="762120" y="571500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3" descr="Кровать"/>
          <p:cNvPicPr/>
          <p:nvPr/>
        </p:nvPicPr>
        <p:blipFill>
          <a:blip r:embed="rId6"/>
          <a:stretch/>
        </p:blipFill>
        <p:spPr>
          <a:xfrm>
            <a:off x="152280" y="4876920"/>
            <a:ext cx="1128960" cy="11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4" descr="Кормить"/>
          <p:cNvPicPr/>
          <p:nvPr/>
        </p:nvPicPr>
        <p:blipFill>
          <a:blip r:embed="rId7"/>
          <a:stretch/>
        </p:blipFill>
        <p:spPr>
          <a:xfrm>
            <a:off x="762120" y="3809880"/>
            <a:ext cx="1066680" cy="105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5"/>
          <p:cNvSpPr/>
          <p:nvPr/>
        </p:nvSpPr>
        <p:spPr>
          <a:xfrm>
            <a:off x="792000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#4_25_Ventura_Hotel california.mp3" descr=""/>
          <p:cNvPicPr/>
          <p:nvPr/>
        </p:nvPicPr>
        <p:blipFill>
          <a:blip r:embed="rId8"/>
          <a:stretch/>
        </p:blipFill>
        <p:spPr>
          <a:xfrm>
            <a:off x="8610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7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467480" y="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72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80240" y="-396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Кровать"/>
          <p:cNvPicPr/>
          <p:nvPr/>
        </p:nvPicPr>
        <p:blipFill>
          <a:blip r:embed="rId1"/>
          <a:stretch/>
        </p:blipFill>
        <p:spPr>
          <a:xfrm>
            <a:off x="1555920" y="1600200"/>
            <a:ext cx="6216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make one’s 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Кровать"/>
          <p:cNvPicPr/>
          <p:nvPr/>
        </p:nvPicPr>
        <p:blipFill>
          <a:blip r:embed="rId2"/>
          <a:stretch/>
        </p:blipFill>
        <p:spPr>
          <a:xfrm>
            <a:off x="1517760" y="1596960"/>
            <a:ext cx="62308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600200" y="55990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00200" y="5791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lay th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на стол"/>
          <p:cNvPicPr/>
          <p:nvPr/>
        </p:nvPicPr>
        <p:blipFill>
          <a:blip r:embed="rId1"/>
          <a:stretch/>
        </p:blipFill>
        <p:spPr>
          <a:xfrm>
            <a:off x="1371600" y="1523880"/>
            <a:ext cx="6248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do the wash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ойка"/>
          <p:cNvPicPr/>
          <p:nvPr/>
        </p:nvPicPr>
        <p:blipFill>
          <a:blip r:embed="rId1"/>
          <a:stretch/>
        </p:blipFill>
        <p:spPr>
          <a:xfrm>
            <a:off x="1447920" y="1523880"/>
            <a:ext cx="6172200" cy="449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answer phone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telefon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4383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clea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7109844_mes_11819[1]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to feed the p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ормить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water the 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Цветы 2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take a pet for a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ыгул собак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0:0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